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5E23-710E-4AFB-B8C4-F90CAF275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56DF-738D-4F51-8136-24E3F727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0DD4-2BAF-466D-B9FC-FB76514C0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841D-3022-4C25-AD99-3088C3BA1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330DF5-6B6B-4607-BE2E-737AAD77D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853B7-EA9E-4AFA-803C-C8AEC17F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17F65-EEB4-4C9C-B87D-C9B8E185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FDB4A-244A-4BDD-AB7C-CEF8E4F8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3C77F-A279-4025-9D8B-575590DA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75ED0-E7FA-4D49-890E-3C0B7BB4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A15BD-0403-49EA-8C3A-091B4CC6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14EC-56D2-4F1B-BB63-7EB38CA6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D9DD4-6183-4E20-AD83-EFEF8528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E959C-FFFB-42EF-A7A8-701B0A0B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ABB89-792D-4624-B719-6EBF7B6C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BB10C-D2E6-491C-9D0C-0EC42A983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2702A2-BF37-439A-BA4B-014BE9EF7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18B7-66D4-4B15-86AA-C7B30E81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25DA-4F30-45C4-83AB-26D4C762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9FD0-B49D-47DB-AFF1-2E82C56B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CB29-4846-42F4-A9C2-6C741281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A04F-7BF9-4D41-8006-6D1FD371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E9E2-220E-4A99-9F6F-AE8A0267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E0BF-7791-448D-A4B6-BE21CE86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67AB-D251-408B-B538-FDEBD2D8BE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A375-E14D-414E-BDDC-3C64557CD5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er para 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thew Frankl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desayun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 gusta comer tosta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 gusta comer huev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 gusta comer toci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 gusta la salchic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 gusta beber  jugo de naranj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3429000" cy="2200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143000" y="44197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almuerzo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2317680" cy="23619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 gusta comer un sándwich de jam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 gusta comer Chee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 gusta el té helad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80880" y="4419720"/>
            <a:ext cx="2438640" cy="1636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2819520" y="2057400"/>
            <a:ext cx="1743120" cy="262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ce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2317680" cy="2361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 gusta hamburguesa con que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 gusta papas fri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 gusta ensalada de pa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 gusta beber Coca-Col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57200" y="44956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124080" y="1676520"/>
            <a:ext cx="1324080" cy="3448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2:05:42Z</dcterms:created>
  <dc:creator>franklinmat</dc:creator>
  <dc:description/>
  <dc:language>en-US</dc:language>
  <cp:lastModifiedBy>franklinmat</cp:lastModifiedBy>
  <dcterms:modified xsi:type="dcterms:W3CDTF">2011-04-14T18:04:34Z</dcterms:modified>
  <cp:revision>5</cp:revision>
  <dc:subject/>
  <dc:title>Lo que es para …</dc:title>
</cp:coreProperties>
</file>